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AEB2-1F84-4980-8F31-02C47C9B9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y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50C13-F118-48D4-AA9B-993AFCB81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4B319-576C-4821-A0BF-31D8D8697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366B0-44D5-4891-95AB-7AB3EAD74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E2608-46B6-4201-94F2-8431BD0132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1A4B-C01D-4C07-B229-35387207BC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E585-D6D3-4EE2-B7EB-4076F0EF5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7D42-29DC-4186-9743-D93AAEC3A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A3722-06FF-4576-8CFF-C2F14E005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808B3-014A-4200-A689-9FBE779F9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985D-0281-4AC7-A9E1-A4A88785D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78B16-ADC1-4248-B14C-679D9D506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B76A-AC1F-4612-ADDD-20D886252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93392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933920" indent="-214560"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151920"/>
            <a:ext cx="7696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c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ccff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ccff"/>
                </a:solidFill>
                <a:latin typeface="Arial"/>
                <a:ea typeface="Arial"/>
              </a:rPr>
              <a:t>© The McGraw-Hill Companies, Inc. Permission required for reproduction or display</a:t>
            </a:r>
            <a:r>
              <a:rPr b="0" lang="en-US" sz="9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800" y="640044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c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10CC-7DF9-4F83-9E99-0B3343FBF527}" type="slidenum">
              <a:rPr b="0" lang="en-US" sz="9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tudy of Microbial Structure: Microscopy and Specimen Prepar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EA02B-DEAB-4826-A23A-3BB9847876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fig2.4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5726160" cy="5627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2120" y="5715000"/>
            <a:ext cx="15238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F16E3-C78A-4DD0-ACBE-0EE2581A979E}" type="slidenum">
              <a:t>10</a:t>
            </a:fld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Microscope Resolution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bility of a lens to separate or distinguish small objects that are close togeth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velength of light used is major factor in resolu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orter wavelength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reater resolu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9BF6-551C-4E24-A4DA-655DA7B3B1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able2.2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126280" cy="2219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960" y="4613400"/>
            <a:ext cx="7864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orking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ance between the front surface of lens and surface of cover glass or speci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88B97-06A9-426C-ACF7-F49DB7C167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fig2.5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26280" cy="3560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4600" y="576576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872D4-3D64-47D2-8A4B-ECC20C76C9B4}" type="slidenum">
              <a:t>13</a:t>
            </a:fld>
          </a:p>
        </p:txBody>
      </p:sp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2.6" descr=""/>
          <p:cNvPicPr/>
          <p:nvPr/>
        </p:nvPicPr>
        <p:blipFill>
          <a:blip r:embed="rId1"/>
          <a:stretch/>
        </p:blipFill>
        <p:spPr>
          <a:xfrm>
            <a:off x="507960" y="1325520"/>
            <a:ext cx="8126280" cy="4206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4600" y="561348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F6EA-78CA-4EA0-931F-429EC0167D38}" type="slidenum">
              <a:t>14</a:t>
            </a:fld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Dark-Field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es a bright image of the object against a dark backgrou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d to observe living, unstained prepara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FAFF-7496-467B-B17C-C73A359020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ig2.7b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5165640" cy="5943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38800" y="59180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7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7D208-03BF-40B6-B295-75987EE3B604}" type="slidenum">
              <a:t>16</a:t>
            </a:fld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Phase-Contrast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hances the contrast between intracellular structures having slight differences in refractive index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cellent way to observe living cell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2D73-D835-43B1-B454-CDEDBBACC7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0" y="5918040"/>
            <a:ext cx="133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fig2.9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535280" cy="566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211CB-EDC1-4BE8-8675-9417563D167C}" type="slidenum">
              <a:t>18</a:t>
            </a:fld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ig2.10" descr=""/>
          <p:cNvPicPr/>
          <p:nvPr/>
        </p:nvPicPr>
        <p:blipFill>
          <a:blip r:embed="rId1"/>
          <a:stretch/>
        </p:blipFill>
        <p:spPr>
          <a:xfrm>
            <a:off x="507960" y="1216080"/>
            <a:ext cx="8126280" cy="4425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4240" y="56894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8175-38A4-49C6-AEBC-E8F316567887}" type="slidenum">
              <a:t>19</a:t>
            </a:fld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cal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0102" descr=""/>
          <p:cNvPicPr/>
          <p:nvPr/>
        </p:nvPicPr>
        <p:blipFill>
          <a:blip r:embed="rId1"/>
          <a:stretch/>
        </p:blipFill>
        <p:spPr>
          <a:xfrm>
            <a:off x="2614680" y="-361800"/>
            <a:ext cx="3914640" cy="758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DE58A-C3F0-4AA4-A39D-33916820F9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Differential Interference Contrast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reates image by detecting differences in refractive indices and thickness of different parts of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cellent way to observe living cell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B0235-EB08-420F-8B9E-955C317E8E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Fluorescence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oses specimen to ultraviolet, violet, or blue ligh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mens usually stained with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uorochrom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ows a bright image of the object resulting from the fluorescent light emitted by the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DE199-0165-4C18-9892-C2CD4FE170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fig2.12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5099040" cy="5867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96000" y="5918040"/>
            <a:ext cx="14716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E621E-41DC-47B2-874F-4E43919DD9A7}" type="slidenum">
              <a:t>22</a:t>
            </a:fld>
          </a:p>
        </p:txBody>
      </p:sp>
    </p:spTree>
  </p:cSld>
  <p:transition spd="slow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fig2.13cd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248680" cy="441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69960" y="5475240"/>
            <a:ext cx="227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3c and 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04C1-69C7-4321-97A2-165C75CB1710}" type="slidenum">
              <a:t>23</a:t>
            </a:fld>
          </a:p>
        </p:txBody>
      </p:sp>
    </p:spTree>
  </p:cSld>
  <p:transition spd="slow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Preparation and Staining of Specimen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es visibility of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entuates specific morphological featur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serves specime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32F9D-0218-4599-844B-02EC1221D9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Fixation 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 by which internal and external structures are preserved and fixed in posi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s by which organism is killed and firmly attached to microscope sli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t fix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serves overall morphology but not internal struct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fix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ts fine cellular substructure and morphology of larger, more delicate organism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23EE5-E5EA-4110-9245-E5C7BC0BC9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yes and Simple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y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ke internal and external structures of cell more visible by increasing contrast with backgrou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two common featur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romophore group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emical groups with conjugated double bond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dye its colo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bility to bind cell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FE95C-5A7C-4596-84B2-93CB8FD189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yes and Simple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imple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single staining agent is us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asic dy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re frequently us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yes with positive charg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, crystal viole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ADDD9-CF72-4040-976F-B1FBC713F3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ifferential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vides microorganisms into groups based on their staining properti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.g., Gram stai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.g., acid-fast stai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903F7-742E-4C68-805F-18C022A752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Gram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st widely used differential staining procedur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vides Bacteria into two groups based on differences in cell wall structur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D5B1-17D7-4232-832C-2C674F9A5B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Discovery of Microorganism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tony van Leeuwenhoek (1632-1723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rst person to observe and describe micro-organisms accuratel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fig1.1" descr=""/>
          <p:cNvPicPr/>
          <p:nvPr/>
        </p:nvPicPr>
        <p:blipFill>
          <a:blip r:embed="rId1"/>
          <a:stretch/>
        </p:blipFill>
        <p:spPr>
          <a:xfrm>
            <a:off x="3962520" y="2135160"/>
            <a:ext cx="4495680" cy="310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99680" y="52466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1.1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1F9F-7E5C-42BF-A8B5-0636A455F6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fig2.14" descr=""/>
          <p:cNvPicPr/>
          <p:nvPr/>
        </p:nvPicPr>
        <p:blipFill>
          <a:blip r:embed="rId1"/>
          <a:stretch/>
        </p:blipFill>
        <p:spPr>
          <a:xfrm>
            <a:off x="2809800" y="457200"/>
            <a:ext cx="5218200" cy="6019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2840" y="584208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1371600"/>
            <a:ext cx="1143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    s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2700360"/>
            <a:ext cx="119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d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3400" y="4986360"/>
            <a:ext cx="167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s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25240" y="4232160"/>
            <a:ext cx="192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lo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98800" y="5527800"/>
            <a:ext cx="1215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952520" y="5715000"/>
            <a:ext cx="685800" cy="76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8320" y="617220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9208-12E0-44BF-A2A5-EBAA96ACC0CB}" type="slidenum">
              <a:t>30</a:t>
            </a:fld>
          </a:p>
        </p:txBody>
      </p:sp>
    </p:spTree>
  </p:cSld>
  <p:transition spd="slow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fig2.15c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132760" cy="4462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4240" y="5765760"/>
            <a:ext cx="159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15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6600" y="5791320"/>
            <a:ext cx="453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Escherichia col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– a gram-negative r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846B-0A46-4521-839B-BBC3360FF584}" type="slidenum">
              <a:t>31</a:t>
            </a:fld>
          </a:p>
        </p:txBody>
      </p:sp>
    </p:spTree>
  </p:cSld>
  <p:transition spd="slow"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Acid-fast staining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icularly useful for staining members of the genus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ycobacterium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ycobacterium tuberculo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causes tuberculo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ycobacterium lepra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causes lepros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gh lipid content in cell walls is responsible for their staining characteristic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0E4A4-DD6B-4957-BC05-DB5D619B37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taining Specific Structure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egative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ten used to visualize capsules surrounding bacteri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psules are colorless against a stained backgroun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EB0F0-AF37-4F94-BE9B-9CB99524AF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taining Specific Structure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pore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uble staining techniqu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terial endospore is one color and vegetative cell is a different colo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agella stain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rdant applied to increase thickness of flagella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17E7-FB49-432D-9095-0EDBE8218D2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Electron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ams of electrons are used to produce image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velength of electron beam is much shorter than light, resulting in much higher resolu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fig2.20b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757680" cy="4343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56880" y="600876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69B2-3530-46AE-B2BD-AB8A1537953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Transmission Electron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ectrons scatter when they pass through thin sections of a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nsmitted electrons (those that do not scatter) are used to produce imag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nser regions in specimen, scatter more electrons and appear dark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9FC24-9E3C-4E4C-9D31-4A70007297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fig2.23b" descr=""/>
          <p:cNvPicPr/>
          <p:nvPr/>
        </p:nvPicPr>
        <p:blipFill>
          <a:blip r:embed="rId1"/>
          <a:stretch/>
        </p:blipFill>
        <p:spPr>
          <a:xfrm>
            <a:off x="2962440" y="457200"/>
            <a:ext cx="5181480" cy="6019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43000" y="58672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EM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76AA-350A-4B6B-816D-F4CE8AEDCD53}" type="slidenum">
              <a:t>37</a:t>
            </a:fld>
          </a:p>
        </p:txBody>
      </p:sp>
    </p:spTree>
  </p:cSld>
  <p:transition spd="slow"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pecimen Preparation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alogous to procedures used for light microscop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 transmission electron microscopy, specimens must be cut very thi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ecimens are chemically fixed and stained with electron dense materia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536B-4208-46F1-BA65-EF06486DC3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Other preparation method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adow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ating specimen with a thin film of a heavy meta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reeze-etching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eeze specimen then fracture along lines of greatest weakness (e.g., membranes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30DB-0C96-4D96-ABD3-26BBECADED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Lenses and the Bending of Light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ght is refracted (bent) when passing from one medium to another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fractive index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measure of how greatly a substance slows the velocity of ligh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rection and magnitude of bending is determined by the refractive indexes of the two media forming the interfa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724E-4A5A-4C06-95C8-D5A565B09E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fig2.25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86600" cy="5600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7400" y="6070680"/>
            <a:ext cx="14716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82F4-39A6-4645-8BB1-217379CE08B4}" type="slidenum">
              <a:t>40</a:t>
            </a:fld>
          </a:p>
        </p:txBody>
      </p:sp>
    </p:spTree>
  </p:cSld>
  <p:transition spd="slow"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18-x05-ebolavirus" descr=""/>
          <p:cNvPicPr/>
          <p:nvPr/>
        </p:nvPicPr>
        <p:blipFill>
          <a:blip r:embed="rId1"/>
          <a:stretch/>
        </p:blipFill>
        <p:spPr>
          <a:xfrm>
            <a:off x="127080" y="507960"/>
            <a:ext cx="8889840" cy="5842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Ebola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A860-E77C-4FE2-B454-B30F0779693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21-13b-mutantfruitfly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Fly head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DCBBB-60C6-46AE-9DB3-7FF8B8EE6B1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Scanning Electron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s electrons reflected from the surface of a specimen to create imag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es a 3-dimensional image of specimen’s surface featur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633E-29F0-4266-8B05-145BE33B942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fig2.27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5236920" cy="6096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43720" y="59180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E057-21C1-43DD-B41C-B24FA2158A70}" type="slidenum">
              <a:t>44</a:t>
            </a:fld>
          </a:p>
        </p:txBody>
      </p:sp>
    </p:spTree>
  </p:cSld>
  <p:transition spd="slow"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Newer Techniques in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focal microscop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canning probe microscopy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extremely high resolu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n be used to observe individual atom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fig2.20b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493800" cy="4038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709160" y="593244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6EE3-596D-410A-B064-30696B4CB10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onfocal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focal scanning laser microsco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ser beam used to illuminate spots on specim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uter compiles images created from each point to generate a 3-dimensional imag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D940-E6FF-4755-9078-729D5341142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fig2.29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73920" cy="5386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09480" y="5943600"/>
            <a:ext cx="167652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2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6C6C9-BD07-4231-A392-6F74366BDC64}" type="slidenum">
              <a:t>47</a:t>
            </a:fld>
          </a:p>
        </p:txBody>
      </p:sp>
    </p:spTree>
  </p:cSld>
  <p:transition spd="slow"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fig2.30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291440" cy="5048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15120" y="5842080"/>
            <a:ext cx="147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3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39FB-3B64-4242-927A-E9C8D454F8FB}" type="slidenum">
              <a:t>48</a:t>
            </a:fld>
          </a:p>
        </p:txBody>
      </p:sp>
    </p:spTree>
  </p:cSld>
  <p:transition spd="slow"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canning Probe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canning tunneling microsco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eady current (tunneling current) maintained between microscope probe and specim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p and down movement of probe as it maintains current is detected and used to create image of surface of specime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0B4D-2891-48CF-8C0E-0DEB3666D0B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Lenses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cus light rays at a specific place called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cal poin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stance between center of lens and focal point is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cal length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rength of lens related to focal length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ort focal length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re magnific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490E-93FF-4380-A755-1EC7215DCB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Scanning Probe Microscopy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tomic force microsco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arp probe moves over surface of specimen at constant distan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p and down movement of probe as it maintains constant distance is detected and used to create imag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40438-EE11-48EC-AD85-2D367EDD334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ig2.2" descr=""/>
          <p:cNvPicPr/>
          <p:nvPr/>
        </p:nvPicPr>
        <p:blipFill>
          <a:blip r:embed="rId1"/>
          <a:stretch/>
        </p:blipFill>
        <p:spPr>
          <a:xfrm>
            <a:off x="1447920" y="557280"/>
            <a:ext cx="6248160" cy="574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3880" y="5867280"/>
            <a:ext cx="1600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.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2E6C8-5037-4C03-8C54-39F0D94648E3}" type="slidenum">
              <a:t>6</a:t>
            </a:fld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Light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y typ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ight-field microscop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rk-field microscop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ase-contrast microscop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luorescence microscop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e compound microscop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age formed by action of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 len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52DC-759C-48EC-A2DF-A466FB4310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The Bright-Field Microscope</a:t>
            </a:r>
            <a:endParaRPr b="1" lang="en-US" sz="4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duces a dark image against a brighter backgrou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s several objective lens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rfoc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microscopes remain in focus when objectives are changed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tal magnific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duct of the magnifications of the ocular lens and the objective len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249EF-971F-4AD7-8421-B53FBE1063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fig2.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26560" cy="5491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5943600"/>
            <a:ext cx="1752480" cy="429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gure 2.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8594-CAB4-47B6-9CB0-E9A4AD2B9053}" type="slidenum">
              <a:t>9</a:t>
            </a:fld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19:58:44Z</dcterms:created>
  <dc:creator>John Sherwood</dc:creator>
  <dc:description/>
  <dc:language>en-US</dc:language>
  <cp:lastModifiedBy>Mark S. Davis</cp:lastModifiedBy>
  <dcterms:modified xsi:type="dcterms:W3CDTF">2003-09-04T16:03:31Z</dcterms:modified>
  <cp:revision>15</cp:revision>
  <dc:subject/>
  <dc:title>PowerPoint Presentation  -  Chapter 2</dc:title>
</cp:coreProperties>
</file>